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C8DCE-CE8C-4259-A0AF-955526092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A9B36-96DD-47AB-9980-8583BF6DB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31E4C-E545-4E91-83D1-A25812A0F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E54A7-2382-43E0-9604-49FAAAEE3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44F35-2A69-4575-975A-8FD8FD00F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D7B57-494E-437A-8CB7-44E0E740E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D8E37-49A6-47C7-9940-049CC6C4C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9D80D-A874-47F5-BD7F-396241D68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EC2EB-BE55-48BB-A4BE-873B8FEBC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C5452-5F19-4896-A61A-4B214F255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96D3E-32FE-43B5-9CFB-EA11F27C6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AF095-839B-4E31-88CF-2A9E93385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34FA-C74C-4FB0-80B1-0904B1AF1D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ctden.com/pp/index.htm"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4924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x5x5  Power Point Plans</a:t>
            </a:r>
            <a:endParaRPr b="0" lang="en-US" sz="3600" spc="-1" strike="noStrike">
              <a:solidFill>
                <a:srgbClr val="000000"/>
              </a:solidFill>
              <a:latin typeface="Arial"/>
            </a:endParaRPr>
          </a:p>
        </p:txBody>
      </p:sp>
      <p:sp>
        <p:nvSpPr>
          <p:cNvPr id="42" name=""/>
          <p:cNvSpPr/>
          <p:nvPr/>
        </p:nvSpPr>
        <p:spPr>
          <a:xfrm>
            <a:off x="0" y="609480"/>
            <a:ext cx="9144000" cy="5937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following empty slides as you research your  topic to plan how each slide will look. You must hand this in for approval before starting the actual power point projec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nk about what types of clip art or pictures would help teach the concep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w a sketch for each slid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should b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Title Slide…including student names and the title… maybe a cool picture relating to the concep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 Information slides teaching us what you learned…there could be hyperlinks to a website, labeled diagrams or pictur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sure there is enough information to explain the concep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Finally there should be a slide listing the resources used…such as websites and book titl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you need help with Power Point go here…</a:t>
            </a:r>
            <a:endParaRPr b="0" lang="en-US" sz="2000" spc="-1" strike="noStrike">
              <a:solidFill>
                <a:srgbClr val="000000"/>
              </a:solidFill>
              <a:latin typeface="Arial"/>
            </a:endParaRPr>
          </a:p>
        </p:txBody>
      </p:sp>
      <p:sp>
        <p:nvSpPr>
          <p:cNvPr id="43" name=""/>
          <p:cNvSpPr/>
          <p:nvPr/>
        </p:nvSpPr>
        <p:spPr>
          <a:xfrm>
            <a:off x="5279760" y="6073920"/>
            <a:ext cx="386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actden.com/pp/index.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14:12:01Z</dcterms:created>
  <dc:creator>ccps</dc:creator>
  <dc:description/>
  <dc:language>en-US</dc:language>
  <cp:lastModifiedBy>ccps</cp:lastModifiedBy>
  <dcterms:modified xsi:type="dcterms:W3CDTF">2007-10-03T18:33:14Z</dcterms:modified>
  <cp:revision>4</cp:revision>
  <dc:subject/>
  <dc:title>5x5x5 Power Point Plans</dc:title>
</cp:coreProperties>
</file>